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AC6-1FFD-41A5-BB53-819388BC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1ED-637C-4A03-8ECF-C2F05CF8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840-0405-42B4-B5F2-C9B06D99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3BB-93C8-44EF-A41C-68A9CD28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52D-596D-48E3-A577-70808F61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86F-79E9-45A1-9D40-E3B2792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EB0-8B17-4A67-AAB3-11DDD9DC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9571-D6FB-4DA5-B907-301CADAC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F5D-7CC4-4C85-9C81-C13CC6C3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375-BCA2-465A-9803-F9FA0DAF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ED6-F9CB-4644-BD29-4C00054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96E-A4C2-457B-A121-4AB02E97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03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4EC-A1C7-4AFC-8A03-7FE1540B1AC4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2880" y="48574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e4b038"/>
                </a:solidFill>
                <a:latin typeface="Arial"/>
                <a:ea typeface="Arial"/>
              </a:rPr>
              <a:t>Ivan Braj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e4b038"/>
                </a:solidFill>
                <a:latin typeface="Arial"/>
                <a:ea typeface="Arial"/>
              </a:rPr>
              <a:t>Ministar saobraćaja i pomor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85920" y="2357280"/>
            <a:ext cx="6429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4b038"/>
                </a:solidFill>
                <a:latin typeface="Arial"/>
              </a:rPr>
              <a:t>“</a:t>
            </a:r>
            <a:r>
              <a:rPr b="1" i="1" lang="hr-HR" sz="2800" spc="-1" strike="noStrike">
                <a:solidFill>
                  <a:srgbClr val="e4b038"/>
                </a:solidFill>
                <a:latin typeface="Arial"/>
              </a:rPr>
              <a:t>Plan redovnog i investicionog održavanja, rekonstrukcije i izgradnje državnih puteva u 2014. godin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e4b038"/>
                </a:solidFill>
                <a:latin typeface="Arial"/>
              </a:rPr>
              <a:t>Četvrtak, 6. mart 2014. go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35676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82864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Program sanacija mostova, klizišta i kosina na magistralnim i regionalnim putevima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, za nastavak realizacije ovog programa u 2014. godini opredijeljena su sredstva u iznosu od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,5 miliona eura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i planirano je projektovanje i/ili sanacija na sledećim lokalitetima: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Rekonstrukcija 8 mostova na regionalnom putu R-10 </a:t>
            </a: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(Slijepač most – Tomaševo – Pljevl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Sanacija mosta Tmušići na dionici Berane – Roža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Sanacija mosta (preko rijeke Plašnice) na putu Kolašin – Mojkova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Sanacija nestabilne kosine na dionici puta Podgorica –Kolaš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Rekonstrukcija puta – sanacija klizišta na dionici Bar – Ulcinj, lokalitet “Kruče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Rješavanje uskih grla na saobraćajnoj mreži Crne Gore,ukupne vrijednosti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4,7 miliona eura</a:t>
            </a: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,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podrazumijeva nastavak realizacije obilaznica oko većih gradova i to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Nikšić II faz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Rožaje II faz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Golubovci III faza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kao </a:t>
            </a: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i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izgradnja bulevara od Budve do Bečića sa rekonstrukcijom raskrsnice Budva-Cetinje-Bečići</a:t>
            </a:r>
            <a:r>
              <a:rPr b="0" i="1" lang="en-US" sz="2200" spc="-1" strike="noStrike">
                <a:solidFill>
                  <a:srgbClr val="898989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Izgradnja tunela Tifra</a:t>
            </a: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- 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za ove namjene je iz Budžeta Crne Gore u ovoj godini zdvojeno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,2  miliona eura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Radovi koji su počeli u 2011. godini nijesu vršeni u kontinuitetu zbog organizacionog problema Izvođača radova. U 2014. godini, kada dozvole vremenski uslovi, nastaviće se sa radovima na izradi porta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Investiciono održavanje regionalnih </a:t>
            </a: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i</a:t>
            </a: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magistralnih puteva: nadzor, projektovanje, eksproprijacija, revizije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-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za ove namjene iz Budžeta Crne Gore izdvojeno je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,8 miliona eura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za izradu građevinskih projekata za rekonstrukcije puteva i sanacije objekata, revizije projekata, eksproprijaciju zemljišta, vršenje građevinskog nadzora na radovima rekonstrukcija i sanacija i za manje rekonstrukcije rasvjete u tunelima. </a:t>
            </a:r>
            <a:r>
              <a:rPr b="0" i="1" lang="en-US" sz="22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Izgradnja saobraćajnih traka za spora vozila (tzv. treće trake), ukupna sredstva opredijeljena za realizaciju ovih projekata j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 milion 50 hiljada eura 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i u planu su radovi na slijedećim lokacijam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Lokalitet Kuside, na magistralnom putu Nikšić – Vilusi 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Lokalitet  Slijepač most – Lepenac na dionici Mojkovac – Ribarev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b038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Program eliminisanja posljedica od poplava na magistralnim i regionalnim putevima, opredijeljena su sredstva u iznosu od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750 hiljada eura</a:t>
            </a:r>
            <a:r>
              <a:rPr b="1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, a prema planu u 2014. godini izvršiće se slijedeći radovi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asfaltnih kolovoza – investiciono održavanje - presvlačenje asfaltnog kolovoz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klizišta “Bać“ na magistralnom putu M-2, dionica Berane - Špiljan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c000"/>
                </a:solidFill>
                <a:latin typeface="Arial"/>
                <a:ea typeface="Arial"/>
              </a:rPr>
              <a:t>HVALA 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1" i="1" lang="sr-Latn-CS" sz="4800" spc="-1" strike="noStrike">
                <a:solidFill>
                  <a:srgbClr val="ffc000"/>
                </a:solidFill>
                <a:latin typeface="Arial"/>
                <a:ea typeface="Arial"/>
              </a:rPr>
              <a:t>PAŽNJI !!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c000"/>
                </a:solidFill>
                <a:latin typeface="Arial"/>
                <a:ea typeface="Arial"/>
              </a:rPr>
              <a:t>PR Služba Ministarstva saobraćaja i pomor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+ 382 20 482 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71680" y="2214720"/>
            <a:ext cx="8286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U protekloj deceniji u održavanje, rekonstrukciju i izgradnju državnih puteva (devet magistralnih i dvadeset tri regionalna puta dužine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1.847,74 km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uloženo je preko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300 miliona eura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Nesporno je da je broj poginulih u Crnoj Gori u konstantnom padu, te da je u 2012. godini  skoro tri puta manji nego u 2007 godin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U </a:t>
            </a:r>
            <a:r>
              <a:rPr b="0" lang="sr-Latn-CS" sz="2200" spc="-1" strike="noStrike">
                <a:solidFill>
                  <a:srgbClr val="ffc000"/>
                </a:solidFill>
                <a:latin typeface="Arial"/>
                <a:ea typeface="Arial"/>
              </a:rPr>
              <a:t>prilog tome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je i Izvještaj Svjetskog ekonomskog foruma sadržan u Globalnom indeksu o konkurentnosti 2013-2014, koji je po kvalitetu putne infrastrukture Crnu Goru svrstao ispred država regiona (Srbija, Bosna i Hercegovina i Makedonij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2214720"/>
            <a:ext cx="8286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Plan redovnog i investicionog održavanja, rekonstrukcije i izgradnje državnih puteva u 2014. </a:t>
            </a:r>
            <a:r>
              <a:rPr b="1" i="1" lang="sr-Latn-CS" sz="2400" spc="-1" strike="noStrike">
                <a:solidFill>
                  <a:srgbClr val="ffc000"/>
                </a:solidFill>
                <a:latin typeface="Arial"/>
                <a:ea typeface="Arial"/>
              </a:rPr>
              <a:t>g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odini, prema izvorima finansiranja, podijeljen  je u sljedeće cjel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Finansiranje iz Tekućeg budžeta Crne Gore -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.989.309,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Finansiranje iz Kapitalnog budžeta Crne Gore -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.973.000,00 €</a:t>
            </a:r>
            <a:r>
              <a:rPr b="1" i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UKUPNO  ..................................................................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2.962.309, 00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8760" y="2071440"/>
            <a:ext cx="8286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Finansiranje iz Tekućeg budžeta Crne Gore -  9.989.309,00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Za redovno održavanje i zaštitu državnih puteva za 2014.</a:t>
            </a:r>
            <a:r>
              <a:rPr b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 godinu izdvojena su sredstva iz Tekućeg budžeta Crne Gore u iznosu 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.689.309,00 eura</a:t>
            </a:r>
            <a:r>
              <a:rPr b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e4b0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Tekućim </a:t>
            </a:r>
            <a:r>
              <a:rPr b="1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budžetom predviđena su takođe i sredstva za djelatnost </a:t>
            </a:r>
            <a:r>
              <a:rPr b="1" i="1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Službe „Pomoć-informisanje na javnim putevima”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Služba „Pomoć – informisanje na putu” </a:t>
            </a:r>
            <a:r>
              <a:rPr b="0" lang="pl-PL" sz="2000" spc="-1" strike="noStrike">
                <a:solidFill>
                  <a:srgbClr val="e4b038"/>
                </a:solidFill>
                <a:latin typeface="Arial"/>
                <a:ea typeface="Arial"/>
              </a:rPr>
              <a:t>je informisanje o stanju na putevima i pružanje tehničke pomoći motorizovanim učesnicima u saobraćaju na javnim putevima Crne Gore u toku dvadeset i četiri sata. </a:t>
            </a:r>
            <a:r>
              <a:rPr b="0" lang="en-US" sz="2000" spc="-1" strike="noStrike">
                <a:solidFill>
                  <a:srgbClr val="e4b038"/>
                </a:solidFill>
                <a:latin typeface="Arial"/>
                <a:ea typeface="Arial"/>
              </a:rPr>
              <a:t>Predviđena sredstva izno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0 hiljada e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b038"/>
                </a:solidFill>
                <a:latin typeface="Calibri"/>
              </a:rPr>
              <a:t>Finansiranje iz Kapitalnog budžeta Crne Gore - </a:t>
            </a:r>
            <a:r>
              <a:rPr b="1" i="1" lang="en-US" sz="2200" spc="-1" strike="noStrike">
                <a:solidFill>
                  <a:srgbClr val="ffffff"/>
                </a:solidFill>
                <a:latin typeface="Calibri"/>
              </a:rPr>
              <a:t>42.973.000,00 €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en-US" sz="16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b038"/>
                </a:solidFill>
                <a:latin typeface="Calibri"/>
              </a:rPr>
              <a:t>Rekonstrukcija regionalnih i magistralnih puteva u Crnoj Gori ukupne vrijednosti 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11.800.000,00 eura </a:t>
            </a:r>
            <a:r>
              <a:rPr b="1" i="1" lang="en-US" sz="1800" spc="-1" strike="noStrike">
                <a:solidFill>
                  <a:srgbClr val="e4b038"/>
                </a:solidFill>
                <a:latin typeface="Calibri"/>
              </a:rPr>
              <a:t>i u sklopu ovog programa izvodiće se radovi na 8 lokalitet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12 Vilusi-Vraćenovići, dionica Petrovići-Vraćenović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Berane-Kolašin, dionica Berane-Lubn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Berane-Kolašin, dionica Lubnice-Jeze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20 Berane-Trpezi-Kalače, dionica Berane-Petnj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10 Slijepač most-Tomaševo-Trlica, dionica Pavino polje-Kov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R-3 Pljevlja-Metalj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M-2.4, dionica Ulcinj - Kru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b038"/>
                </a:solidFill>
                <a:uFillTx/>
                <a:latin typeface="Calibri"/>
              </a:rPr>
              <a:t>Rekonstrukcija puta M-18, dionica Tuzi-Pljo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Rekonstrukcija i sanacija kritičnih tačaka ukupne vrijednosti </a:t>
            </a:r>
            <a:r>
              <a:rPr b="1" i="1" lang="sr-Latn-CS" sz="2200" spc="-1" strike="noStrike">
                <a:solidFill>
                  <a:srgbClr val="ffffff"/>
                </a:solidFill>
                <a:latin typeface="Arial"/>
                <a:ea typeface="Arial"/>
              </a:rPr>
              <a:t>500 hiljada eura</a:t>
            </a:r>
            <a:r>
              <a:rPr b="1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i u okviru ovih sredstava planirana je izrada tehničke dokumentacije i početak radova na najkritičnijim  dionicama. Dionice koje su predviđene ovim Programom su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Šest (6) kritičnih tačaka na magistralnom putu Podgorica –Kolaši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Kritična tačka na magistralnom putu  Cetinje – Budva </a:t>
            </a: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nestabilne kosine, dionica Nikšić - Danilovgrad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e4b038"/>
                </a:solidFill>
                <a:latin typeface="Arial"/>
                <a:ea typeface="Arial"/>
              </a:rPr>
              <a:t>Sanacija nestabilne kosine poslije tunela broj 59 takođe na dionici puta  Nikšić – Danilovgrad</a:t>
            </a:r>
            <a:r>
              <a:rPr b="0" lang="sr-Latn-CS" sz="2200" spc="-1" strike="noStrike">
                <a:solidFill>
                  <a:srgbClr val="e4b038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Otplata duga za put RISAN – ŽABLJAK,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finansijska sredstva izdvojena za ovaj program izno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1 miliona 373 hiljade eur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Autoput Bar-Boljare, dionica Smokovac – Mateševo </a:t>
            </a:r>
            <a:r>
              <a:rPr b="1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-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za ovaj projekat u 2014. opredijeljena su sredstva u iznosu 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,1 milion eura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 od čega s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 miliona eura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odnose na nastavak eksproprijacije zemljišta za dionicu Smokovac –Mateševo 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,1 milion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 za dopunu  projektne dokumentacije i izradu Elaborata koje je potrebno uraditi prije početka radov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Putni prelazi (pruga Nikšić – Podgorica) ukupne vrijednosti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miliona eura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, ovim sredstvima planirani su radovi na izgradnji 3 podvožnjak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Pažić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Ždrebaonik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Spuž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kao i izgradnja pristupnih saobraćajn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687564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e4b038"/>
                </a:solidFill>
                <a:latin typeface="Calisto MT"/>
              </a:rPr>
              <a:t>VLADA CRNE GORE</a:t>
            </a:r>
            <a:br>
              <a:rPr sz="4900"/>
            </a:br>
            <a:r>
              <a:rPr b="0" lang="hr-HR" sz="2200" spc="-1" strike="noStrike">
                <a:solidFill>
                  <a:srgbClr val="e4b038"/>
                </a:solidFill>
                <a:latin typeface="Calisto MT"/>
              </a:rPr>
              <a:t>MINISTARSTVO 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SAOBRA</a:t>
            </a:r>
            <a:r>
              <a:rPr b="0" lang="sr-Latn-CS" sz="2200" spc="-1" strike="noStrike">
                <a:solidFill>
                  <a:srgbClr val="e4b038"/>
                </a:solidFill>
                <a:latin typeface="Calisto MT"/>
              </a:rPr>
              <a:t>Ć</a:t>
            </a:r>
            <a:r>
              <a:rPr b="0" lang="en-US" sz="2200" spc="-1" strike="noStrike">
                <a:solidFill>
                  <a:srgbClr val="e4b038"/>
                </a:solidFill>
                <a:latin typeface="Calisto MT"/>
              </a:rPr>
              <a:t>AJA I POMOR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Grb CG na crvenoj pozadini.jpg"/>
          <p:cNvPicPr/>
          <p:nvPr/>
        </p:nvPicPr>
        <p:blipFill>
          <a:blip r:embed="rId1"/>
          <a:stretch/>
        </p:blipFill>
        <p:spPr>
          <a:xfrm>
            <a:off x="214200" y="0"/>
            <a:ext cx="1936800" cy="2260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28760" y="2214360"/>
            <a:ext cx="82864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98989"/>
                </a:solidFill>
                <a:latin typeface="Calibri"/>
              </a:rPr>
              <a:t> </a:t>
            </a:r>
            <a:r>
              <a:rPr b="1" i="1" lang="en-US" sz="2200" spc="-1" strike="noStrike">
                <a:solidFill>
                  <a:srgbClr val="e4b038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Program rekonstrukcije raskrsnica ukupne vrijednosti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,2 miliona eura</a:t>
            </a:r>
            <a:r>
              <a:rPr b="1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  obuhvatiće rekonstrukciju sljedećih raskrsnica</a:t>
            </a:r>
            <a:r>
              <a:rPr b="0" i="1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magistralnom putu M-2 lokalitet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B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magistralnom putu M-2.1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u Bijelom Polju (ukrsni putni pravci: M-2.1 i zaobilaznica Bijelog Polj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ulazu u Mojkova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b0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4b038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e4b038"/>
                </a:solidFill>
                <a:latin typeface="Arial"/>
                <a:ea typeface="Arial"/>
              </a:rPr>
              <a:t>raskrsnica na magistralnom putu M-2.4, lokalitet Sutom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01:46:13Z</dcterms:created>
  <dc:creator>Srdjan Kusovac</dc:creator>
  <dc:description/>
  <dc:language>en-US</dc:language>
  <cp:lastModifiedBy>aleksandar.djukic</cp:lastModifiedBy>
  <dcterms:modified xsi:type="dcterms:W3CDTF">2014-03-06T10:19:42Z</dcterms:modified>
  <cp:revision>110</cp:revision>
  <dc:subject/>
  <dc:title>VLADA CRNE GORE  Savjet za privatizaciju i kapitalne projekte</dc:title>
</cp:coreProperties>
</file>